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83F0-9735-43D0-9178-448516F0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7769-8B57-4FE7-AA7E-7A1786DE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DC6D-025F-437D-BB7B-61055841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569A-B6E9-4644-AF14-20BFF350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E77C-351B-4F08-990B-8CD14472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4B3E-F7BE-4F65-A25E-206A370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52E1-D397-41C6-A999-F1BB052C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FC11-E5A1-4848-860C-60109BA5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82DC-63ED-4C03-B99E-5EDD9210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0472-129C-4126-8F93-EF98A6A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31B-1FC0-4735-AE63-2ADE2A5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4E12-1897-44B4-9044-7299B17D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D41B-1619-4854-A57A-B1B3FC6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56E6-DCDB-4C6F-890B-6C41B82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773F-B861-413B-B383-06274EF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F0EB-C10F-46F6-A5EA-9E96F3A7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1D0F-8634-42C7-9572-8C354B40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74C9-7CBF-4C72-89D4-19375C97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2EAA-E68A-4384-B244-8326D577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039A-A8D6-4619-A79C-ED044F9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0DAB-7752-45FE-803B-199BD2F0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E13B-87F0-4053-A3E9-D6206E6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1463-EADF-40FB-BF4E-F925CB4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7332-0022-4C56-BC57-59A8B15A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9B7F-2E92-47EA-BE72-9DF26C4793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32EF-E93D-47E1-B243-2DBFFB859B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1.wmf"/><Relationship Id="rId3" Type="http://schemas.openxmlformats.org/officeDocument/2006/relationships/slide" Target="slide38.xml"/><Relationship Id="rId4" Type="http://schemas.openxmlformats.org/officeDocument/2006/relationships/slide" Target="slide2.xml"/><Relationship Id="rId5" Type="http://schemas.openxmlformats.org/officeDocument/2006/relationships/image" Target="../media/image2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" Target="slide6.xml"/><Relationship Id="rId4" Type="http://schemas.openxmlformats.org/officeDocument/2006/relationships/image" Target="../media/image3.wmf"/><Relationship Id="rId5" Type="http://schemas.openxmlformats.org/officeDocument/2006/relationships/slide" Target="slide7.xml"/><Relationship Id="rId6" Type="http://schemas.openxmlformats.org/officeDocument/2006/relationships/image" Target="../media/image3.wmf"/><Relationship Id="rId7" Type="http://schemas.openxmlformats.org/officeDocument/2006/relationships/slide" Target="slide3.xml"/><Relationship Id="rId8" Type="http://schemas.openxmlformats.org/officeDocument/2006/relationships/image" Target="../media/image3.wmf"/><Relationship Id="rId9" Type="http://schemas.openxmlformats.org/officeDocument/2006/relationships/slide" Target="slide4.xml"/><Relationship Id="rId10" Type="http://schemas.openxmlformats.org/officeDocument/2006/relationships/image" Target="../media/image3.wmf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38.xml"/><Relationship Id="rId14" Type="http://schemas.openxmlformats.org/officeDocument/2006/relationships/slide" Target="slide38.xml"/><Relationship Id="rId1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38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38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wmf"/><Relationship Id="rId3" Type="http://schemas.openxmlformats.org/officeDocument/2006/relationships/slide" Target="slide10.xml"/><Relationship Id="rId4" Type="http://schemas.openxmlformats.org/officeDocument/2006/relationships/image" Target="../media/image3.wmf"/><Relationship Id="rId5" Type="http://schemas.openxmlformats.org/officeDocument/2006/relationships/slide" Target="slide13.xml"/><Relationship Id="rId6" Type="http://schemas.openxmlformats.org/officeDocument/2006/relationships/image" Target="../media/image3.wmf"/><Relationship Id="rId7" Type="http://schemas.openxmlformats.org/officeDocument/2006/relationships/slide" Target="slide11.xml"/><Relationship Id="rId8" Type="http://schemas.openxmlformats.org/officeDocument/2006/relationships/image" Target="../media/image3.wmf"/><Relationship Id="rId9" Type="http://schemas.openxmlformats.org/officeDocument/2006/relationships/slide" Target="slide12.xml"/><Relationship Id="rId10" Type="http://schemas.openxmlformats.org/officeDocument/2006/relationships/image" Target="../media/image3.wmf"/><Relationship Id="rId11" Type="http://schemas.openxmlformats.org/officeDocument/2006/relationships/slide" Target="slide8.xml"/><Relationship Id="rId12" Type="http://schemas.openxmlformats.org/officeDocument/2006/relationships/image" Target="../media/image3.wmf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38.xml"/><Relationship Id="rId16" Type="http://schemas.openxmlformats.org/officeDocument/2006/relationships/slide" Target="slide38.xml"/><Relationship Id="rId17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38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4.xml"/><Relationship Id="rId15" Type="http://schemas.openxmlformats.org/officeDocument/2006/relationships/slide" Target="slide25.xml"/><Relationship Id="rId16" Type="http://schemas.openxmlformats.org/officeDocument/2006/relationships/slide" Target="slide26.xml"/><Relationship Id="rId17" Type="http://schemas.openxmlformats.org/officeDocument/2006/relationships/slide" Target="slide27.xml"/><Relationship Id="rId18" Type="http://schemas.openxmlformats.org/officeDocument/2006/relationships/slide" Target="slide28.xml"/><Relationship Id="rId19" Type="http://schemas.openxmlformats.org/officeDocument/2006/relationships/slide" Target="slide29.xml"/><Relationship Id="rId20" Type="http://schemas.openxmlformats.org/officeDocument/2006/relationships/slide" Target="slide15.xml"/><Relationship Id="rId21" Type="http://schemas.openxmlformats.org/officeDocument/2006/relationships/slide" Target="slide31.xml"/><Relationship Id="rId22" Type="http://schemas.openxmlformats.org/officeDocument/2006/relationships/slide" Target="slide32.xml"/><Relationship Id="rId23" Type="http://schemas.openxmlformats.org/officeDocument/2006/relationships/slide" Target="slide33.xml"/><Relationship Id="rId24" Type="http://schemas.openxmlformats.org/officeDocument/2006/relationships/slide" Target="slide34.xml"/><Relationship Id="rId25" Type="http://schemas.openxmlformats.org/officeDocument/2006/relationships/slide" Target="slide35.xml"/><Relationship Id="rId26" Type="http://schemas.openxmlformats.org/officeDocument/2006/relationships/slide" Target="slide36.xml"/><Relationship Id="rId27" Type="http://schemas.openxmlformats.org/officeDocument/2006/relationships/slide" Target="slide37.xml"/><Relationship Id="rId28" Type="http://schemas.openxmlformats.org/officeDocument/2006/relationships/slide" Target="slide1.xml"/><Relationship Id="rId29" Type="http://schemas.openxmlformats.org/officeDocument/2006/relationships/slide" Target="slide1.xml"/><Relationship Id="rId3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wmf"/><Relationship Id="rId3" Type="http://schemas.openxmlformats.org/officeDocument/2006/relationships/slide" Target="slide15.xml"/><Relationship Id="rId4" Type="http://schemas.openxmlformats.org/officeDocument/2006/relationships/image" Target="../media/image3.wmf"/><Relationship Id="rId5" Type="http://schemas.openxmlformats.org/officeDocument/2006/relationships/slide" Target="slide16.xml"/><Relationship Id="rId6" Type="http://schemas.openxmlformats.org/officeDocument/2006/relationships/image" Target="../media/image3.wmf"/><Relationship Id="rId7" Type="http://schemas.openxmlformats.org/officeDocument/2006/relationships/slide" Target="slide19.xml"/><Relationship Id="rId8" Type="http://schemas.openxmlformats.org/officeDocument/2006/relationships/image" Target="../media/image3.wmf"/><Relationship Id="rId9" Type="http://schemas.openxmlformats.org/officeDocument/2006/relationships/slide" Target="slide17.xml"/><Relationship Id="rId10" Type="http://schemas.openxmlformats.org/officeDocument/2006/relationships/image" Target="../media/image3.wmf"/><Relationship Id="rId11" Type="http://schemas.openxmlformats.org/officeDocument/2006/relationships/slide" Target="slide18.xml"/><Relationship Id="rId12" Type="http://schemas.openxmlformats.org/officeDocument/2006/relationships/image" Target="../media/image3.wmf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38.xml"/><Relationship Id="rId16" Type="http://schemas.openxmlformats.org/officeDocument/2006/relationships/slide" Target="slide38.xml"/><Relationship Id="rId1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0.xml"/><Relationship Id="rId3" Type="http://schemas.openxmlformats.org/officeDocument/2006/relationships/image" Target="../media/image3.wmf"/><Relationship Id="rId4" Type="http://schemas.openxmlformats.org/officeDocument/2006/relationships/slide" Target="slide21.xml"/><Relationship Id="rId5" Type="http://schemas.openxmlformats.org/officeDocument/2006/relationships/image" Target="../media/image3.wmf"/><Relationship Id="rId6" Type="http://schemas.openxmlformats.org/officeDocument/2006/relationships/slide" Target="slide22.xml"/><Relationship Id="rId7" Type="http://schemas.openxmlformats.org/officeDocument/2006/relationships/image" Target="../media/image3.wmf"/><Relationship Id="rId8" Type="http://schemas.openxmlformats.org/officeDocument/2006/relationships/slide" Target="slide26.xml"/><Relationship Id="rId9" Type="http://schemas.openxmlformats.org/officeDocument/2006/relationships/image" Target="../media/image3.wmf"/><Relationship Id="rId10" Type="http://schemas.openxmlformats.org/officeDocument/2006/relationships/slide" Target="slide23.xml"/><Relationship Id="rId11" Type="http://schemas.openxmlformats.org/officeDocument/2006/relationships/image" Target="../media/image3.wmf"/><Relationship Id="rId12" Type="http://schemas.openxmlformats.org/officeDocument/2006/relationships/slide" Target="slide24.xml"/><Relationship Id="rId13" Type="http://schemas.openxmlformats.org/officeDocument/2006/relationships/image" Target="../media/image3.wmf"/><Relationship Id="rId14" Type="http://schemas.openxmlformats.org/officeDocument/2006/relationships/slide" Target="slide25.xml"/><Relationship Id="rId15" Type="http://schemas.openxmlformats.org/officeDocument/2006/relationships/image" Target="../media/image3.wmf"/><Relationship Id="rId16" Type="http://schemas.openxmlformats.org/officeDocument/2006/relationships/slide" Target="slide1.xml"/><Relationship Id="rId17" Type="http://schemas.openxmlformats.org/officeDocument/2006/relationships/slide" Target="slide1.xml"/><Relationship Id="rId18" Type="http://schemas.openxmlformats.org/officeDocument/2006/relationships/slide" Target="slide38.xml"/><Relationship Id="rId19" Type="http://schemas.openxmlformats.org/officeDocument/2006/relationships/slide" Target="slide38.xml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38.xml"/><Relationship Id="rId8" Type="http://schemas.openxmlformats.org/officeDocument/2006/relationships/slide" Target="slide38.xml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38.xml"/><Relationship Id="rId11" Type="http://schemas.openxmlformats.org/officeDocument/2006/relationships/slide" Target="slide38.xml"/><Relationship Id="rId1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38.xml"/><Relationship Id="rId8" Type="http://schemas.openxmlformats.org/officeDocument/2006/relationships/slide" Target="slide38.xml"/><Relationship Id="rId9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 State Reading Ancho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s of questions from th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774720" cy="127152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6324480" y="6400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for index of Anch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4952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0" y="6216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browse anchors and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.3 Make inferences, draw conclusions, and make generalizations based on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11.A.1.3.1 Make inferences and/or draw conclusions based on information from tex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n the character says….he is referring to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speaker of the poem is most likely addressing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reason the poet addresses readers directly in the last stanze is to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uthor's repetition of the phrase" she should have known" allows the reader to conclude th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11.A.1.3.2 Cite evidence from text to support generaliz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243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rId7" action="ppaction://hlinksldjump"/>
          </p:cNvPr>
          <p:cNvSpPr/>
          <p:nvPr/>
        </p:nvSpPr>
        <p:spPr>
          <a:xfrm>
            <a:off x="8305920" y="64911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11.A.1.4 Identify and explain main ideas and relevant details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11.A.1.4.1 Identify and/or explains stated or implied main ideas and relevant supporting details from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statement best describes the main theme of the poem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passage, (something happens) because..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52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.5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ummarize a fictional text as a whole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11.A.1.5.1 Summarize the key details and events of a fictional text as a whole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poem, (something) because of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60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.6 Identify, describe, and analyze genre of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1.6.1Identify and/or analyze the author’s intended purpose of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y did the author most likely write this passag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1.6.2 Explain, describe, and/or analyze examples of text that support the author’s intended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7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2.1 Identify and apply the meaning of vocabulary in nonfiction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2.1.1 Identify and/or apply meaning of multiple-meaning words used in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 the following lines from the poem.  These lines suggest that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2.1.2 Identify and/or apply meaning of content-specific words used in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8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2.2 Identify and apply word recognition skill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2.2.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dentify and apply how the meaning of a word is changed when an affix is added; identify the meaning of a word from the text with an aff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ad the following sentences from the passage.  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Gives passage that includes word with affix that alters meaning of root and list of possible definit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which word does the "re-" mean the same as it does in react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2.2.2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 and/or apply how the meaning of  words or phrases changes when  using context clues given in explanatory sentenc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 used in the passage, what does the word________mea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ad the following sentences from the passage….In this context the word______most likely means__________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29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2.3 Make inferences, draw conclusions, and make generalizations based on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3.1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Make inferences and/or draw conclusions based on information from tex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Why does the writer most likely begin the passage by stating that_________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According to the passage what is the primary reason that____________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Which statement is supported by the passage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In the last paragraph when (author) said that____________, he probably meant that_____________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In the last paragraph, (someone) is quoted as saying, (quote).  This quotation reveals that (someone)…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According to the passage, which will mostly likely occur…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ne indication of/that (something) is (some detail that supports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Which word best describes (someone's) attitude about (something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(Some individual or character) would most likely agree with which statement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11.A.2.3.1 Cite evidence from text to support generalization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In the passage, which best supports the idea that….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Which example from the passage best supports the generalization that poverty inspires creativity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0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11.A.2.4 Identify and explain main ideas and relevant details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11.A.2.4.1 Identify and/or explain stated or implied main ideas and relevant supporting details from tex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ording to the passage….("some detail or fact"  or something happened) because of…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information is most important to the meaning of the passag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is the main point of the passage's last paragraph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ording to the passage which is the best reason/explanation/etc. for…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ich statement from the passage best describes the main idea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ich of these statements best summarizes the first paragraph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ich generalization is best supported by information in the passag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n (character or "the author) writes (Sentence from passage) it refers to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ich statement best explains how microfinance would impact people of poor countries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08" name="Homepage">
            <a:hlinkClick r:id="rId2" action="ppaction://hlinksldjump"/>
          </p:cNvPr>
          <p:cNvSpPr/>
          <p:nvPr/>
        </p:nvSpPr>
        <p:spPr>
          <a:xfrm>
            <a:off x="0" y="609588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76320" y="6415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Infopage">
            <a:hlinkClick r:id="rId4" action="ppaction://hlinksldjump"/>
          </p:cNvPr>
          <p:cNvSpPr/>
          <p:nvPr/>
        </p:nvSpPr>
        <p:spPr>
          <a:xfrm>
            <a:off x="1066680" y="609588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rId5" action="ppaction://hlinksldjump"/>
          </p:cNvPr>
          <p:cNvSpPr/>
          <p:nvPr/>
        </p:nvSpPr>
        <p:spPr>
          <a:xfrm>
            <a:off x="1066680" y="6400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11.A.2.5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Summarize a nonfictional text as a whole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11.A.2.4.1 Summarize the major points, processes, and/or events of a nonfictional text as a who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16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11.A.2.6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Identify, describe, and analyze genre of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2.6.1 Identify and/or describe the author’s intended purpose of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ain purpose of the first paragraph is to____________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2.6.1 Explain, describe, and/or analyze examples of text that support the author’s intended purpo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326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on the Links bel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rehension and Reading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pretation and Analysis of fictional and nonfictional tex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7339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 Understand literary devices in fictional and nonfictional tex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191120"/>
            <a:ext cx="3047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 Understand nonfiction appropriate to grad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7432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1 Understand components within and between tex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514600"/>
            <a:ext cx="3048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1 Understand fiction appropriate to grad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80060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 Understand concepts and organization of nonfictional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88080" y="2514600"/>
            <a:ext cx="903240" cy="91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76920" y="3581280"/>
            <a:ext cx="903240" cy="91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76920" y="4648320"/>
            <a:ext cx="903240" cy="91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5800" y="2286000"/>
            <a:ext cx="903240" cy="91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9480" y="4038480"/>
            <a:ext cx="903240" cy="919440"/>
          </a:xfrm>
          <a:prstGeom prst="rect">
            <a:avLst/>
          </a:prstGeom>
          <a:ln w="0">
            <a:noFill/>
          </a:ln>
        </p:spPr>
      </p:pic>
      <p:sp>
        <p:nvSpPr>
          <p:cNvPr id="119" name="Homepage">
            <a:hlinkClick r:id="rId11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2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fopage">
            <a:hlinkClick r:id="rId13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4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Characte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word/statement best describes…(character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statement best describes the speaker relationship to_______________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peakers feeling about___________can best be described as___________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36" name="Homepage">
            <a:hlinkClick r:id="rId4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>
            <a:hlinkClick r:id="rId5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Infopage">
            <a:hlinkClick r:id="rId6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>
            <a:hlinkClick r:id="rId7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Setting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statement best explains the relationship between the setting and….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44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Plo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52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Them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best describes the theme of this passa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theme of the passage is that people can use simple innovation to improve the lives of impoverished. How do Smith's actions reflect this the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Tone, Style, Mood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word best describes the tone of the po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statement best establishes the mood of (mood word) in the passa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7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Symbolism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78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2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Make connections between texts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11.B.1.2.1 Explain, interpret, compare, describe, analyze, and/or evaluate connections between tex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uthors of (two texts) both agree that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which statement would (both writers) most likely agre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86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.1.1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Identify, explain, interpret, describe, and/or analyze examples of personification, simile, metaphor, hyperbole, satire, imagery, foreshadowing, flashbacks and irony in text.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line from the poem is an example of a simi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poem, what does the image of________most likely refer t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 these lines from the poem….. The description makes it seem as though________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re a passage is followed by a question that asks student to assert meaning of some figurative expression/descri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96" name="Homepage">
            <a:hlinkClick r:id="rId4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5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Infopage">
            <a:hlinkClick r:id="rId6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7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.1.2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Identify, explain, interpret, describe, and/or analyze the author’s purpose for and effectiveness at using figurative language in text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oet's description of________relies mainly on the use of _________(type of fig.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04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.2.1 Identify, explain, interpret, describe, and/or analyze the point of view of the narrator as first person or third person point of view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line from the poem indicates that it is written in the first pers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best describes the point of view used in the passa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13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 Understand fiction appropriate to grade level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1.4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dentify and explain main ideas and relevant detail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895480"/>
            <a:ext cx="3276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 and apply word recognition ski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19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3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inferences, draw conclusions, and make generalizations based on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3124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arize a fictional text as a wh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44956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, describe, and analyze genre of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8195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600" y="44197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84600" y="44197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95680" y="152388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495680" y="3048120"/>
            <a:ext cx="749520" cy="76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1 Identify and apply the meaning of vocabul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4479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137" name="Homepage">
            <a:hlinkClick r:id="rId1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Infopage">
            <a:hlinkClick r:id="rId1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1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.2.2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Explain, interpret, describe, and/or analyze the effectiveness of the point of view used by the author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21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1.1 Explain, interpret, describe, and/or analyze the use of facts and opinions to make a point or construct an argument in nonfictional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se is an opin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se statements from the passage expresses an opin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3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11.B.3.2.1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dentify, explain, and/or interpret bias and propaganda techniques in nonfictional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38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2.2 Explain, describe, and/or analyze the effectiveness of bias and propaganda techniques in nonfictional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eakness of (a passage of opinion writing) is that it relies too much on___________ (rhetorical strategy/type of evidence--i.e. sweeping generalizations, irrelevant details, personal anecdot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46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3.1 Explain, interpret, and/or analyze the effect of text organization, including the use of header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54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11.B.3.3.2 Explain, interpret, and/or analyze the author’s purpose for decisions about text organization and content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which section would readers most likely find information about_________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hor includes ____________ in order t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question that begins the passage is most likely intended t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64" name="Homepage">
            <a:hlinkClick r:id="rId4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>
            <a:hlinkClick r:id="rId5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Infopage">
            <a:hlinkClick r:id="rId6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>
            <a:hlinkClick r:id="rId7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3.3Explain, interpret, and/or analyze graphics and charts, and/or make connections between text and the content of graphics and chart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72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3.4 Identify, explain, compare, interpret, describe, and/or analyze the sequence of steps in a list of direction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80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e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479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R11.A.1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1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1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R11.A.1.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2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2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R11.A.1.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3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3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R11.A.2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1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1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R11.A.2.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2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2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R11.A.2.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3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3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R11.A.2.4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4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R11.A.2.5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5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R11.A.2.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6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3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1.1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Charac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Settin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Plo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Them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Tone, Style, Moo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Symbolis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R11B.1.2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2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R11B.2.1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8" action="ppaction://hlinksldjump"/>
              </a:rPr>
              <a:t>R11B.2.1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2.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9" action="ppaction://hlinksldjump"/>
              </a:rPr>
              <a:t>R11B.2.2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0" action="ppaction://hlinksldjump"/>
              </a:rPr>
              <a:t>R11B.2.2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21" action="ppaction://hlinksldjump"/>
              </a:rPr>
              <a:t>R11B.3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3.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2" action="ppaction://hlinksldjump"/>
              </a:rPr>
              <a:t>R11B.3.2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3" action="ppaction://hlinksldjump"/>
              </a:rPr>
              <a:t>R11B.3.2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3.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4" action="ppaction://hlinksldjump"/>
              </a:rPr>
              <a:t>R11B.3.3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5" action="ppaction://hlinksldjump"/>
              </a:rPr>
              <a:t>R11B.3.3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6" action="ppaction://hlinksldjump"/>
              </a:rPr>
              <a:t>R11B.3.3.3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7" action="ppaction://hlinksldjump"/>
              </a:rPr>
              <a:t>R11B.3.3.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Homepage">
            <a:hlinkClick r:id="rId28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>
            <a:hlinkClick r:id="rId29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2 Understand nonfiction appropriate to grade level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1 Identify and apply the meaning of vocabulary in nonfi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52520" y="1828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4 Identify and explain main ideas and relevant detai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5909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2 Identify and apply word recognition ski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5053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3 Make inferences, draw conclusions, and make generalizations based on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3124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5 Summarize a nonfictional text as a wh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956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6 Identify, describe, and analyze genre of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51460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5053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24280" y="44197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72000" y="16765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48320" y="30481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155" name="Homepage">
            <a:hlinkClick r:id="rId1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fopage">
            <a:hlinkClick r:id="rId1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 Understand components within and between texts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1.1 Interpret, compare, describe, analyze, and evaluate components of fiction and literary nonfic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514600" y="563868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1.2 Make connections between tex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362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r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228600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352680"/>
            <a:ext cx="1371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8400" y="21337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75120" y="205740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8400" y="312408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057400" y="53341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19720" y="3429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191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ne, Style, M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1911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975120" y="320040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8400" y="403848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75120" y="4038480"/>
            <a:ext cx="74916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Homepage">
            <a:hlinkClick r:id="rId16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17" action="ppaction://hlinksldjump"/>
          </p:cNvPr>
          <p:cNvSpPr/>
          <p:nvPr/>
        </p:nvSpPr>
        <p:spPr>
          <a:xfrm>
            <a:off x="76320" y="6095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fopage">
            <a:hlinkClick r:id="rId18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19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 Understand literary devices in fictional and nonfictional texts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11156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.1.1 Identify, explain, interpret, describe, and/or analyze examples of personification, simile, metaphor, hyperbole, satire, imagery, foreshadowing, flashbacks and irony in tex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52520" y="403812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.2.2 Explain, interpret, describe, and/or analyze the effectiveness of the point of view used by the auth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809880"/>
            <a:ext cx="4038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.1.2 Identify, explain, interpret, describe, and/or analyze the author’s purpose for and effectiveness at using figurative language in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.2.1 Identify, explain, interpret, describe, and/or analyze the point of view of the narrator as first person or third person point of vie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600" y="365760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584600" y="14479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191" name="Homepage">
            <a:hlinkClick r:id="rId5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Infopage">
            <a:hlinkClick r:id="rId7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 Understand concepts and organization of nonfictional text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2.1 Identify, explain, and/or interpret bias and propaganda techniques in nonfictional tex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2520" y="1828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3.3.2Explain, interpret, and/or analyze the author’s purpose for decisions about text organization and cont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0666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1.1 Explain, interpret, describe, and/or analyze the use of facts and opinions to make a point or construct an argument in nonfictional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11480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2.2 Explain, describe, and/or analyze the effectiveness of bias and propaganda techniques in nonfictional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5627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3.1 Explain, interpret, and/or analyze the effect of text organization, including the use of he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2767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3.3 Explain, interpret, and/or analyze graphics and charts, and/or make connections between text and the content of graphics and cha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52578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3.4 Identify, explain, compare, interpret, describe, and/or analyze the sequence of steps in a list of dire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0" y="426708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0" y="55627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724280" y="51055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4572000" y="16765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4648320" y="32767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211" name="Homepage">
            <a:hlinkClick r:id="rId8" action="ppaction://hlinksldjump"/>
          </p:cNvPr>
          <p:cNvSpPr/>
          <p:nvPr/>
        </p:nvSpPr>
        <p:spPr>
          <a:xfrm>
            <a:off x="8153280" y="6477120"/>
            <a:ext cx="457200" cy="380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rId9" action="ppaction://hlinksldjump"/>
          </p:cNvPr>
          <p:cNvSpPr/>
          <p:nvPr/>
        </p:nvSpPr>
        <p:spPr>
          <a:xfrm>
            <a:off x="8153280" y="6629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Infopage">
            <a:hlinkClick r:id="rId10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1" action="ppaction://hlinksldjump"/>
          </p:cNvPr>
          <p:cNvSpPr/>
          <p:nvPr/>
        </p:nvSpPr>
        <p:spPr>
          <a:xfrm>
            <a:off x="8686800" y="66294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7620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11.A.1.1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dentify and apply the meaning of vocabulary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and/or apply meaning of  multiple-meaning words used in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best describes…..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and/or apply a synonym or antonym of a word used in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is an antonym for ….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ometimes this will include a few lines to provide the context within the question; other times students will have to find it in the passag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0292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02920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3" name="Homepage">
            <a:hlinkClick r:id="rId5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Infopage">
            <a:hlinkClick r:id="rId7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.2 Identify and apply word recognition skill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1.2.1 Identify how the meaning of a word is changed when an affix is added; identify the meaning of a word from the text with an affix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1.2.2 Define and/or apply how the meaning of words or phrases changes when using context clues given in explanatory senten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12:50Z</dcterms:created>
  <dc:creator>BASD</dc:creator>
  <dc:description/>
  <dc:language>en-US</dc:language>
  <cp:lastModifiedBy>Property of</cp:lastModifiedBy>
  <dcterms:modified xsi:type="dcterms:W3CDTF">2008-11-07T13:02:06Z</dcterms:modified>
  <cp:revision>16</cp:revision>
  <dc:subject/>
  <dc:title>PA State Reading Anchors</dc:title>
</cp:coreProperties>
</file>